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D9D-E04C-4ABC-A6CF-F8E55C23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902-92CF-4F60-BBE7-816F940D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A55-F97C-475E-811E-101C92E9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4B2-6BE8-4DA2-9574-5D4999F2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D960-53D7-4DA4-9126-F2BA98D9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F1EA-7C53-45BC-9955-8C1D517A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635E-06A2-41FD-A05B-E44E4BA7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985D-5274-41D3-93FA-4682A572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5189-3D72-47E2-818F-3D35F70C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911F-71A5-4632-A43F-A6DFBBEA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E113-4A4A-4869-AE48-B10ABED6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2EA-3949-42C0-9809-32C4020E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4EC2-EA6C-4580-9665-90071433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7F80-6089-4E48-AFD5-0048EABA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EA00-BA62-4210-BB1B-7E26CA13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C2CC-6926-4CAA-B432-CCAE9D27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93F2-33D0-4F66-B136-205C773F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4BD-2548-4433-B345-F6E5B304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026-45CD-45C0-AD33-01D205B1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BB1-F609-4A4F-9450-E0164A42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76F-FE75-4A3C-86DE-7487B13B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B1B-DF04-4FF4-81A3-2D8207BB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620-FE59-4441-913A-4FDC574E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BF2-F562-425A-B072-7A8984E7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58AE-F323-45B2-AF3A-049316236C5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697D-4F56-4836-9658-5F43BC3A66C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amous Peop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Stephanie Moscaritol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ena Gomez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82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la es Selena Gomez. Selena es morena, linda, y simpatica. No es rubia, fea, o bajo. Ella es americana. Selena es ambiciosa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5715000" y="3276720"/>
            <a:ext cx="1941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iall Hora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es Niall Horan. Niall es rubia, guapo, y comica. No es morena, feo, o serio. Naill es irlandés. El e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352680" y="3581280"/>
            <a:ext cx="2718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uis Tomlins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es Louis Tomlinson. Louis es morena, comica, y ambisioso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5:38:19Z</dcterms:created>
  <dc:creator>moscaritoloste</dc:creator>
  <dc:description/>
  <dc:language>en-US</dc:language>
  <cp:lastModifiedBy>moscaritoloste</cp:lastModifiedBy>
  <dcterms:modified xsi:type="dcterms:W3CDTF">2013-10-09T16:11:24Z</dcterms:modified>
  <cp:revision>2</cp:revision>
  <dc:subject/>
  <dc:title>Slide 1</dc:title>
</cp:coreProperties>
</file>